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44F9-B1A4-496D-9647-8D01ECB56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A362-9AD4-4FC4-AC09-DCBA722868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6CA4-05B4-46CA-9200-C3A701E0E4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9F86-0948-4799-A4DA-7E3FD9DF3F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0A16-3933-4E07-9771-D9B0D560C5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176D-B6CD-4A15-AD27-9DC4E52FAB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472B-59D4-4101-83F5-0F5B617272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3B9F-1B0F-47A7-B458-23B2CFBF5A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1CB7-5A70-4B15-8B2D-10B327EAF3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2580-FFA1-4E8F-ABE4-AA7A8415A5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BD57-3D24-468F-9C40-12DA072F86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0917-2715-48CB-8F13-6F4C123D69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3205-1056-4CF7-94C2-8798C2CD2A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F2B5-E2FE-4993-BF5D-67F62E1C83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D5BD-5FFD-449A-B7F9-DE28830563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37E6-8B05-44A9-9E1B-337DBF0A5E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188B-98E4-4A77-AE1E-EF13476762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64B7-CC88-41A6-B68D-0E8B1B4BB8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C237-5B1D-463A-9179-B21AB19B40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3C8A-7A4F-4731-A88B-D37F7AC3F1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D0D6-6B80-433B-97C8-828D30994C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C62D-62B3-411F-B980-B38BA42062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6F89-64C4-434A-B91F-C673E5AA8B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EF11-62B4-4A8A-BA9B-F0E813C346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E926-80BA-459B-9323-32C5987B25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9E6-D2FB-4C2E-B388-CB53C3E5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B89-F163-4B81-B75C-CF3D86E7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A56-3DE3-4887-807F-EAB41E78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16D-F25F-451B-8045-55DD32C1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338B-2CF5-4122-BA58-34FE4EEB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5401-CE5D-4A31-B911-E5E1B66D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1574-24EA-4BF6-B862-8D48E076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3E43-51FA-4973-A778-A1E3DA01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2758-EFFA-4062-B691-EB02D8E9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7C7D-08DC-4E0F-B19B-121F92E4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6D23-58F3-4D47-B1D4-432D93FE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217-A2D0-4C11-A3A1-79DFA42D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6CED-E9DD-45F2-B955-B5007A3B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AAF0-C267-467C-95FA-C9BB643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6277-9112-4708-B38A-A628E6DF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CEAD-18F9-483D-9411-18BE0B05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F364-8A4D-4026-BB41-18AAF526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FA269-1E45-4CB3-85C8-BE7FC3DB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FDD5-DAFA-46DF-A025-D2918E0E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36D4-AA7E-4A62-ABEA-3A9849DB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71F6-0D3F-49EE-8D4E-EE1EFEF2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6B80-C07C-46F3-89B1-65D3DFFC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9A4-E141-43BD-B147-47CD6F05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D60B-BB79-432D-B3B3-1A3D20E3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3D88-AFA4-4B22-AC0A-DAC861F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9731-B342-4C96-A0EC-7AB73D1B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3E242-49DC-4B84-B51C-F5F57FAD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202AB-03D5-443B-953E-586E9F5D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3424-22AC-4C34-B395-D87EB683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7924-3AEC-4884-9143-57B78EF0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54DD-99A8-4C12-94A0-F6DAC467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17E5-95C9-4D23-9A7A-F3F2ED39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123CD-8842-4BD2-8D2F-814759C6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662-5DB7-42C5-BC3C-BDA063DB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AA79-E551-4F07-A401-B065C690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6644A-215F-4B97-9C7B-EEC6CA8F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9417-F236-42E7-AECE-DFB59E38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29D51-412F-488C-B821-EC1D67A8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4D83-36D9-4573-9EF8-FEA5ECC7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69408-88C6-4B20-B61B-0EB241A6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CD03F-2C97-4FD1-A194-74CAA74B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ABC8-D712-4295-A08D-CB8281E2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594A-C81B-4BD2-B4E6-646D66FE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6F25C-5B4D-496A-AD8F-8BE4E57A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DC6-D822-46B7-A441-5B35E379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76119-E51E-4900-AE9D-C2C4E99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3E37-74B6-48EB-98D1-84A92C31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FDF6-3237-4B2C-9CCC-514F0FFA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B6002-9380-4BFC-B9F5-4AD06593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FCDD6-55CC-4013-86DE-ACE2E18F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806FE-6CC1-48FA-879F-5168A6DF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129FE-24C6-4F95-962A-C29D549D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E7BBC-29DD-4F3B-8642-B6E627C9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41F91-3098-48F3-A690-22D42BBA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80E39-BBE9-4F6F-8149-AE72FA17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FE1-9F77-4199-9992-3A996227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6A664-90B2-4BE3-88DD-C9409E1C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8F4E-990F-4BD6-86E6-9FB82DB8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7CECD-1C4E-4A87-8719-6550A781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517D9-3A28-4809-9DAC-F4DF5DD7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2741B-1430-4121-92D8-77BD7819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5C1EF-1EFA-4859-BE89-AEB63D93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9780E-9D39-4D40-A0A1-F995251A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04FC0-318A-426A-BE66-93CA07E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4429E-9D97-4D5D-9F3A-DD421F31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DAD65-9ED5-4248-9026-43D7E8E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D89-2698-4F58-9AF6-22DE14DB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FDD44-F7C8-4FBD-A1AF-3ABA0C54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57248-BA33-4FDA-A362-F28715BB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B6D29-5EBC-4F20-915C-A558D7D3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4E147-FCC2-4798-AF8B-C46C312D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10644-BE84-4E26-998C-255A41F2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67148-628F-4ABD-9132-1CB53286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7F1B4-0695-4362-AA63-E96B3D40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1F851-9E85-4BED-B076-3A754F42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952ED-81EF-4910-8870-A6A02710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AD6D4-81C0-4124-BDD2-CE7147E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2EC-F1E4-4E1E-B9CF-BDBD0BF3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8AEFD-8434-4B70-8DBA-D8AAC049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1CCF-489F-4E70-BEB3-143E2A1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A76B4-4053-4D7D-A11C-6ACF12B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BBEEE-CCEF-46E7-9115-30E0AB46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0191E-3574-4E18-8113-AFA7BFCC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F32-8419-4E13-9A0D-66F8F89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568B-7D8B-4B30-9484-9100A045154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73E6-B3F6-4D1D-A34B-79A33736375F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B188-92D4-438E-A015-50C63A29346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EAF5-FC10-4913-9A1A-4DEE11B15E0D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C7F7-503D-4785-9919-B2A00A87120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90FD-9D40-461F-A151-63066D8E969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9D7D-4410-4608-B20F-A5E14BD161E7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049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29528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Maria eats a hamburg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aria come </a:t>
            </a:r>
            <a:r>
              <a:rPr b="1" lang="en-US" sz="2600" spc="-1" strike="noStrike">
                <a:solidFill>
                  <a:srgbClr val="ff2bd8"/>
                </a:solidFill>
                <a:latin typeface="Century Gothic"/>
              </a:rPr>
              <a:t>una hamburguesa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arlos wants pizz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arlos quiere </a:t>
            </a:r>
            <a:r>
              <a:rPr b="1" lang="en-US" sz="2600" spc="-1" strike="noStrike">
                <a:solidFill>
                  <a:srgbClr val="ff2bd8"/>
                </a:solidFill>
                <a:latin typeface="Century Gothic"/>
              </a:rPr>
              <a:t>pizza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armelita kissed Carl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armelita besa a </a:t>
            </a:r>
            <a:r>
              <a:rPr b="1" lang="en-US" sz="2600" spc="-1" strike="noStrike">
                <a:solidFill>
                  <a:srgbClr val="ff2bd8"/>
                </a:solidFill>
                <a:latin typeface="Century Gothic"/>
              </a:rPr>
              <a:t>Carlos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Susana is tall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Susana es alta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WordArt 9"/>
          <p:cNvSpPr txBox="1"/>
          <p:nvPr/>
        </p:nvSpPr>
        <p:spPr>
          <a:xfrm>
            <a:off x="5105520" y="464832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"a" persona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5" name="AutoShape 10"/>
          <p:cNvSpPr/>
          <p:nvPr/>
        </p:nvSpPr>
        <p:spPr>
          <a:xfrm rot="1423200">
            <a:off x="4266720" y="449568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37" name="Content Placeholder 3" descr="conjugation chart.jpg"/>
          <p:cNvPicPr/>
          <p:nvPr/>
        </p:nvPicPr>
        <p:blipFill>
          <a:blip r:embed="rId2"/>
          <a:stretch/>
        </p:blipFill>
        <p:spPr>
          <a:xfrm>
            <a:off x="1143000" y="2025720"/>
            <a:ext cx="6858000" cy="4286160"/>
          </a:xfrm>
          <a:prstGeom prst="rect">
            <a:avLst/>
          </a:prstGeom>
          <a:ln w="0">
            <a:noFill/>
          </a:ln>
        </p:spPr>
      </p:pic>
      <p:pic>
        <p:nvPicPr>
          <p:cNvPr id="338" name="Rectangle 4" descr=""/>
          <p:cNvPicPr/>
          <p:nvPr/>
        </p:nvPicPr>
        <p:blipFill>
          <a:blip r:embed="rId3"/>
          <a:stretch/>
        </p:blipFill>
        <p:spPr>
          <a:xfrm>
            <a:off x="1657440" y="1841400"/>
            <a:ext cx="2079360" cy="1200240"/>
          </a:xfrm>
          <a:prstGeom prst="rect">
            <a:avLst/>
          </a:prstGeom>
          <a:ln w="0">
            <a:noFill/>
          </a:ln>
        </p:spPr>
      </p:pic>
      <p:pic>
        <p:nvPicPr>
          <p:cNvPr id="339" name="Rectangle 5" descr=""/>
          <p:cNvPicPr/>
          <p:nvPr/>
        </p:nvPicPr>
        <p:blipFill>
          <a:blip r:embed="rId4"/>
          <a:stretch/>
        </p:blipFill>
        <p:spPr>
          <a:xfrm>
            <a:off x="1884240" y="3213000"/>
            <a:ext cx="1640160" cy="1200240"/>
          </a:xfrm>
          <a:prstGeom prst="rect">
            <a:avLst/>
          </a:prstGeom>
          <a:ln w="0">
            <a:noFill/>
          </a:ln>
        </p:spPr>
      </p:pic>
      <p:pic>
        <p:nvPicPr>
          <p:cNvPr id="340" name="Rectangle 6" descr=""/>
          <p:cNvPicPr/>
          <p:nvPr/>
        </p:nvPicPr>
        <p:blipFill>
          <a:blip r:embed="rId5"/>
          <a:stretch/>
        </p:blipFill>
        <p:spPr>
          <a:xfrm>
            <a:off x="1500120" y="4432320"/>
            <a:ext cx="1596960" cy="1200240"/>
          </a:xfrm>
          <a:prstGeom prst="rect">
            <a:avLst/>
          </a:prstGeom>
          <a:ln w="0">
            <a:noFill/>
          </a:ln>
        </p:spPr>
      </p:pic>
      <p:pic>
        <p:nvPicPr>
          <p:cNvPr id="341" name="Rectangle 7" descr=""/>
          <p:cNvPicPr/>
          <p:nvPr/>
        </p:nvPicPr>
        <p:blipFill>
          <a:blip r:embed="rId6"/>
          <a:stretch/>
        </p:blipFill>
        <p:spPr>
          <a:xfrm>
            <a:off x="2567160" y="4432320"/>
            <a:ext cx="1614240" cy="1200240"/>
          </a:xfrm>
          <a:prstGeom prst="rect">
            <a:avLst/>
          </a:prstGeom>
          <a:ln w="0">
            <a:noFill/>
          </a:ln>
        </p:spPr>
      </p:pic>
      <p:pic>
        <p:nvPicPr>
          <p:cNvPr id="342" name="Rectangle 8" descr=""/>
          <p:cNvPicPr/>
          <p:nvPr/>
        </p:nvPicPr>
        <p:blipFill>
          <a:blip r:embed="rId7"/>
          <a:stretch/>
        </p:blipFill>
        <p:spPr>
          <a:xfrm>
            <a:off x="4548240" y="1914480"/>
            <a:ext cx="2151000" cy="120024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9" descr=""/>
          <p:cNvPicPr/>
          <p:nvPr/>
        </p:nvPicPr>
        <p:blipFill>
          <a:blip r:embed="rId8"/>
          <a:stretch/>
        </p:blipFill>
        <p:spPr>
          <a:xfrm>
            <a:off x="4700520" y="3286080"/>
            <a:ext cx="1736640" cy="120024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10" descr=""/>
          <p:cNvPicPr/>
          <p:nvPr/>
        </p:nvPicPr>
        <p:blipFill>
          <a:blip r:embed="rId9"/>
          <a:stretch/>
        </p:blipFill>
        <p:spPr>
          <a:xfrm>
            <a:off x="4091040" y="4584600"/>
            <a:ext cx="1901880" cy="120024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11" descr=""/>
          <p:cNvPicPr/>
          <p:nvPr/>
        </p:nvPicPr>
        <p:blipFill>
          <a:blip r:embed="rId10"/>
          <a:stretch/>
        </p:blipFill>
        <p:spPr>
          <a:xfrm>
            <a:off x="5541840" y="4584600"/>
            <a:ext cx="19195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os pronombres </a:t>
            </a:r>
            <a:r>
              <a:rPr b="1" lang="en-US" sz="3000" spc="-1" strike="noStrike">
                <a:solidFill>
                  <a:srgbClr val="2c71ff"/>
                </a:solidFill>
                <a:latin typeface="Century Gothic"/>
              </a:rPr>
              <a:t>REEMPLEZA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l nombr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ria come </a:t>
            </a:r>
            <a:r>
              <a:rPr b="1" lang="en-US" sz="3600" spc="-1" strike="noStrike">
                <a:solidFill>
                  <a:srgbClr val="ff2bd8"/>
                </a:solidFill>
                <a:latin typeface="Century Gothic"/>
              </a:rPr>
              <a:t>una hamburguesa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mos a reemplazar el objeto direc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Mueve el pronombre enfrente del verb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Maria </a:t>
            </a:r>
            <a:r>
              <a:rPr b="1" lang="en-US" sz="4400" spc="-1" strike="noStrike">
                <a:solidFill>
                  <a:srgbClr val="ff2bd8"/>
                </a:solidFill>
                <a:latin typeface="Century Gothic"/>
              </a:rPr>
              <a:t>la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come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3886200" y="2133720"/>
            <a:ext cx="4114800" cy="91440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Rectangle 6" descr=""/>
          <p:cNvPicPr/>
          <p:nvPr/>
        </p:nvPicPr>
        <p:blipFill>
          <a:blip r:embed="rId2"/>
          <a:stretch/>
        </p:blipFill>
        <p:spPr>
          <a:xfrm>
            <a:off x="5052960" y="1920960"/>
            <a:ext cx="1567080" cy="1139760"/>
          </a:xfrm>
          <a:prstGeom prst="rect">
            <a:avLst/>
          </a:prstGeom>
          <a:ln w="0">
            <a:noFill/>
          </a:ln>
        </p:spPr>
      </p:pic>
      <p:sp>
        <p:nvSpPr>
          <p:cNvPr id="352" name="Curved Up Arrow 7"/>
          <p:cNvSpPr/>
          <p:nvPr/>
        </p:nvSpPr>
        <p:spPr>
          <a:xfrm rot="10366200">
            <a:off x="2241360" y="1506600"/>
            <a:ext cx="3394080" cy="730080"/>
          </a:xfrm>
          <a:custGeom>
            <a:avLst/>
            <a:gdLst>
              <a:gd name="textAreaLeft" fmla="*/ 780120 w 3394080"/>
              <a:gd name="textAreaRight" fmla="*/ 2522880 w 3394080"/>
              <a:gd name="textAreaTop" fmla="*/ 97560 h 730080"/>
              <a:gd name="textAreaBottom" fmla="*/ 632520 h 73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29" hR="21600" stAng="10800000" swAng="-5400000"/>
                <a:lnTo>
                  <a:pt x="11091" y="21600"/>
                </a:lnTo>
                <a:arcTo wR="9929" hR="21600" stAng="5400000" swAng="-3640557"/>
                <a:lnTo>
                  <a:pt x="21285" y="5400"/>
                </a:lnTo>
                <a:lnTo>
                  <a:pt x="20438" y="0"/>
                </a:lnTo>
                <a:lnTo>
                  <a:pt x="18961" y="5400"/>
                </a:lnTo>
                <a:lnTo>
                  <a:pt x="19542" y="5400"/>
                </a:lnTo>
                <a:arcTo wR="9929" hR="21600" stAng="1759443" swAng="3547952"/>
                <a:lnTo>
                  <a:pt x="10510" y="21563"/>
                </a:lnTo>
                <a:arcTo wR="9929" hR="21600" stAng="5492605" swAng="5307395"/>
                <a:close/>
              </a:path>
              <a:path fill="darkenLess" w="21600" h="21600">
                <a:moveTo>
                  <a:pt x="0" y="0"/>
                </a:moveTo>
                <a:arcTo wR="9929" hR="21600" stAng="10800000" swAng="-5400000"/>
                <a:lnTo>
                  <a:pt x="11091" y="21600"/>
                </a:lnTo>
                <a:arcTo wR="9929" hR="21600" stAng="5400000" swAng="92605"/>
                <a:lnTo>
                  <a:pt x="10510" y="21563"/>
                </a:lnTo>
                <a:arcTo wR="9929" hR="21600" stAng="5492605" swAng="5307395"/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ria come 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una hamburgues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ria eat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entury Gothic"/>
              </a:rPr>
              <a:t>a hamburger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ria 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la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ria eat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entury Gothic"/>
              </a:rPr>
              <a:t>it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Julia reads the book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Julia reads it.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iguel loves (amar) me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 boys eat dinner everyday.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(The boys eat it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Si tienes un infinitivo, el pronombre de objeto directo puede venir enfrente o después del verb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I am going to watch 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TV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oy a mirar la televisio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I am going to watch 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it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oy a mirar</a:t>
            </a:r>
            <a:r>
              <a:rPr b="0" lang="en-US" sz="2600" spc="-1" strike="noStrike">
                <a:solidFill>
                  <a:srgbClr val="ff2bd8"/>
                </a:solidFill>
                <a:latin typeface="Century Gothic"/>
              </a:rPr>
              <a:t>l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2bd8"/>
                </a:solidFill>
                <a:latin typeface="Century Gothic"/>
              </a:rPr>
              <a:t>La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voy a mirar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5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 am reading </a:t>
            </a:r>
            <a:r>
              <a:rPr b="1" lang="en-US" sz="3200" spc="-1" strike="noStrike">
                <a:solidFill>
                  <a:srgbClr val="ff2bd8"/>
                </a:solidFill>
                <a:latin typeface="Century Gothic"/>
              </a:rPr>
              <a:t>the book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stoy </a:t>
            </a:r>
            <a:r>
              <a:rPr b="1" lang="es-ES_tradnl" sz="3200" spc="-1" strike="noStrike">
                <a:solidFill>
                  <a:srgbClr val="ffffff"/>
                </a:solidFill>
                <a:latin typeface="Century Gothic"/>
              </a:rPr>
              <a:t>leyéndol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bd8"/>
                </a:solidFill>
                <a:latin typeface="Century Gothic"/>
              </a:rPr>
              <a:t>Lo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estoy leyend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444160" cy="13035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1426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I wear shoe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 girl takes the tes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 waiter serves us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I love you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¿Cuáles son los objetos y los pronombres de los objeto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¿Cómo se usa en una frase completa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Los Objetos Indirecto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El </a:t>
            </a:r>
            <a:r>
              <a:rPr b="1" lang="es-ES_tradnl" sz="3600" spc="-1" strike="noStrike">
                <a:solidFill>
                  <a:srgbClr val="17bbfd"/>
                </a:solidFill>
                <a:latin typeface="Century Gothic"/>
              </a:rPr>
              <a:t>objeto indirecto</a:t>
            </a: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ES_tradnl" sz="3000" spc="-1" strike="noStrike" u="sng">
                <a:solidFill>
                  <a:srgbClr val="ffffff"/>
                </a:solidFill>
                <a:uFillTx/>
                <a:latin typeface="Century Gothic"/>
              </a:rPr>
              <a:t>recibe</a:t>
            </a:r>
            <a:r>
              <a:rPr b="1" lang="es-ES_tradnl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2514600" y="3352680"/>
            <a:ext cx="4105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objeto direc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Maria gives Marta a hamburger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t’s label this sentenc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005f"/>
                </a:solidFill>
                <a:latin typeface="Century Gothic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does Maria giv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o </a:t>
            </a:r>
            <a:r>
              <a:rPr b="1" lang="en-US" sz="3200" spc="-1" strike="noStrike">
                <a:solidFill>
                  <a:srgbClr val="17bbfd"/>
                </a:solidFill>
                <a:latin typeface="Century Gothic"/>
              </a:rPr>
              <a:t>receiv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the hamburger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Rectangle 3" descr=""/>
          <p:cNvPicPr/>
          <p:nvPr/>
        </p:nvPicPr>
        <p:blipFill>
          <a:blip r:embed="rId2"/>
          <a:stretch/>
        </p:blipFill>
        <p:spPr>
          <a:xfrm>
            <a:off x="682560" y="1517760"/>
            <a:ext cx="1427400" cy="1133280"/>
          </a:xfrm>
          <a:prstGeom prst="rect">
            <a:avLst/>
          </a:prstGeom>
          <a:ln w="0">
            <a:noFill/>
          </a:ln>
        </p:spPr>
      </p:pic>
      <p:pic>
        <p:nvPicPr>
          <p:cNvPr id="373" name="Rectangle 4" descr=""/>
          <p:cNvPicPr/>
          <p:nvPr/>
        </p:nvPicPr>
        <p:blipFill>
          <a:blip r:embed="rId3"/>
          <a:stretch/>
        </p:blipFill>
        <p:spPr>
          <a:xfrm>
            <a:off x="1981080" y="1530360"/>
            <a:ext cx="1524240" cy="1152360"/>
          </a:xfrm>
          <a:prstGeom prst="rect">
            <a:avLst/>
          </a:prstGeom>
          <a:ln w="0">
            <a:noFill/>
          </a:ln>
        </p:spPr>
      </p:pic>
      <p:pic>
        <p:nvPicPr>
          <p:cNvPr id="374" name="Rectangle 5" descr=""/>
          <p:cNvPicPr/>
          <p:nvPr/>
        </p:nvPicPr>
        <p:blipFill>
          <a:blip r:embed="rId4"/>
          <a:stretch/>
        </p:blipFill>
        <p:spPr>
          <a:xfrm>
            <a:off x="5029200" y="2060640"/>
            <a:ext cx="1036800" cy="603360"/>
          </a:xfrm>
          <a:prstGeom prst="rect">
            <a:avLst/>
          </a:prstGeom>
          <a:ln w="0">
            <a:noFill/>
          </a:ln>
        </p:spPr>
      </p:pic>
      <p:pic>
        <p:nvPicPr>
          <p:cNvPr id="375" name="Rectangle 6" descr=""/>
          <p:cNvPicPr/>
          <p:nvPr/>
        </p:nvPicPr>
        <p:blipFill>
          <a:blip r:embed="rId5"/>
          <a:stretch/>
        </p:blipFill>
        <p:spPr>
          <a:xfrm>
            <a:off x="6022800" y="1676520"/>
            <a:ext cx="2316240" cy="1828800"/>
          </a:xfrm>
          <a:prstGeom prst="rect">
            <a:avLst/>
          </a:prstGeom>
          <a:ln w="0">
            <a:noFill/>
          </a:ln>
        </p:spPr>
      </p:pic>
      <p:sp>
        <p:nvSpPr>
          <p:cNvPr id="376" name="WordArt 9"/>
          <p:cNvSpPr txBox="1"/>
          <p:nvPr/>
        </p:nvSpPr>
        <p:spPr>
          <a:xfrm>
            <a:off x="3962520" y="1752480"/>
            <a:ext cx="561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7bbfd"/>
                </a:solidFill>
                <a:latin typeface="Arial Black"/>
              </a:rPr>
              <a:t>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7bbfd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9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 waiter serves us the hotdog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armelita gives Carlos a kis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 students give the teacher the homework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049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29528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The waiter serves us the hotdog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El mesero sirve </a:t>
            </a:r>
            <a:r>
              <a:rPr b="1" lang="en-US" sz="2600" spc="-1" strike="noStrike">
                <a:solidFill>
                  <a:srgbClr val="e40059"/>
                </a:solidFill>
                <a:latin typeface="Century Gothic"/>
              </a:rPr>
              <a:t>las salchichas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17bbfd"/>
                </a:solidFill>
                <a:latin typeface="Century Gothic"/>
              </a:rPr>
              <a:t>a nosotros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armelita gives Carlos a kis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armelita da </a:t>
            </a:r>
            <a:r>
              <a:rPr b="1" lang="en-US" sz="2600" spc="-1" strike="noStrike">
                <a:solidFill>
                  <a:srgbClr val="e40059"/>
                </a:solidFill>
                <a:latin typeface="Century Gothic"/>
              </a:rPr>
              <a:t>un beso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17bbfd"/>
                </a:solidFill>
                <a:latin typeface="Century Gothic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17bbfd"/>
                </a:solidFill>
                <a:latin typeface="Century Gothic"/>
              </a:rPr>
              <a:t>Carlos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The students give the teacher the homework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Los estudiantes dan </a:t>
            </a:r>
            <a:r>
              <a:rPr b="1" lang="en-US" sz="2600" spc="-1" strike="noStrike">
                <a:solidFill>
                  <a:srgbClr val="e40059"/>
                </a:solidFill>
                <a:latin typeface="Century Gothic"/>
              </a:rPr>
              <a:t>la tarea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17bbfd"/>
                </a:solidFill>
                <a:latin typeface="Century Gothic"/>
              </a:rPr>
              <a:t>a la maestra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4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4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5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5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Los Pronombres de los objetos indirectos"/>
          <p:cNvPicPr/>
          <p:nvPr/>
        </p:nvPicPr>
        <p:blipFill>
          <a:blip r:embed="rId1"/>
          <a:stretch/>
        </p:blipFill>
        <p:spPr>
          <a:xfrm>
            <a:off x="384120" y="0"/>
            <a:ext cx="8242200" cy="1547640"/>
          </a:xfrm>
          <a:prstGeom prst="rect">
            <a:avLst/>
          </a:prstGeom>
          <a:ln w="0">
            <a:noFill/>
          </a:ln>
        </p:spPr>
      </p:pic>
      <p:pic>
        <p:nvPicPr>
          <p:cNvPr id="382" name="Content Placeholder 3" descr="conjugation chart.jpg"/>
          <p:cNvPicPr/>
          <p:nvPr/>
        </p:nvPicPr>
        <p:blipFill>
          <a:blip r:embed="rId2"/>
          <a:stretch/>
        </p:blipFill>
        <p:spPr>
          <a:xfrm>
            <a:off x="1143000" y="2025720"/>
            <a:ext cx="6858000" cy="4286160"/>
          </a:xfrm>
          <a:prstGeom prst="rect">
            <a:avLst/>
          </a:prstGeom>
          <a:ln w="0">
            <a:noFill/>
          </a:ln>
        </p:spPr>
      </p:pic>
      <p:pic>
        <p:nvPicPr>
          <p:cNvPr id="383" name="Rectangle 4" descr=""/>
          <p:cNvPicPr/>
          <p:nvPr/>
        </p:nvPicPr>
        <p:blipFill>
          <a:blip r:embed="rId3"/>
          <a:stretch/>
        </p:blipFill>
        <p:spPr>
          <a:xfrm>
            <a:off x="1657440" y="1841400"/>
            <a:ext cx="2079360" cy="1200240"/>
          </a:xfrm>
          <a:prstGeom prst="rect">
            <a:avLst/>
          </a:prstGeom>
          <a:ln w="0">
            <a:noFill/>
          </a:ln>
        </p:spPr>
      </p:pic>
      <p:pic>
        <p:nvPicPr>
          <p:cNvPr id="384" name="Rectangle 5" descr=""/>
          <p:cNvPicPr/>
          <p:nvPr/>
        </p:nvPicPr>
        <p:blipFill>
          <a:blip r:embed="rId4"/>
          <a:stretch/>
        </p:blipFill>
        <p:spPr>
          <a:xfrm>
            <a:off x="1884240" y="3213000"/>
            <a:ext cx="1640160" cy="1200240"/>
          </a:xfrm>
          <a:prstGeom prst="rect">
            <a:avLst/>
          </a:prstGeom>
          <a:ln w="0">
            <a:noFill/>
          </a:ln>
        </p:spPr>
      </p:pic>
      <p:pic>
        <p:nvPicPr>
          <p:cNvPr id="385" name="Rectangle 8" descr=""/>
          <p:cNvPicPr/>
          <p:nvPr/>
        </p:nvPicPr>
        <p:blipFill>
          <a:blip r:embed="rId5"/>
          <a:stretch/>
        </p:blipFill>
        <p:spPr>
          <a:xfrm>
            <a:off x="4548240" y="1914480"/>
            <a:ext cx="2151000" cy="1200240"/>
          </a:xfrm>
          <a:prstGeom prst="rect">
            <a:avLst/>
          </a:prstGeom>
          <a:ln w="0">
            <a:noFill/>
          </a:ln>
        </p:spPr>
      </p:pic>
      <p:pic>
        <p:nvPicPr>
          <p:cNvPr id="386" name="Rectangle 9" descr=""/>
          <p:cNvPicPr/>
          <p:nvPr/>
        </p:nvPicPr>
        <p:blipFill>
          <a:blip r:embed="rId6"/>
          <a:stretch/>
        </p:blipFill>
        <p:spPr>
          <a:xfrm>
            <a:off x="4700520" y="3286080"/>
            <a:ext cx="1736640" cy="1200240"/>
          </a:xfrm>
          <a:prstGeom prst="rect">
            <a:avLst/>
          </a:prstGeom>
          <a:ln w="0">
            <a:noFill/>
          </a:ln>
        </p:spPr>
      </p:pic>
      <p:sp>
        <p:nvSpPr>
          <p:cNvPr id="387" name="WordArt 13"/>
          <p:cNvSpPr txBox="1"/>
          <p:nvPr/>
        </p:nvSpPr>
        <p:spPr>
          <a:xfrm>
            <a:off x="2666880" y="502920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8" name="WordArt 14"/>
          <p:cNvSpPr txBox="1"/>
          <p:nvPr/>
        </p:nvSpPr>
        <p:spPr>
          <a:xfrm>
            <a:off x="5029200" y="47242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2971800" y="914400"/>
            <a:ext cx="2286000" cy="533520"/>
          </a:xfrm>
          <a:prstGeom prst="rect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WordArt 16"/>
          <p:cNvSpPr txBox="1"/>
          <p:nvPr/>
        </p:nvSpPr>
        <p:spPr>
          <a:xfrm>
            <a:off x="3200400" y="91440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recto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aria da </a:t>
            </a:r>
            <a:r>
              <a:rPr b="1" lang="en-US" sz="3200" spc="-1" strike="noStrike">
                <a:solidFill>
                  <a:srgbClr val="ff2bd8"/>
                </a:solidFill>
                <a:latin typeface="Century Gothic"/>
              </a:rPr>
              <a:t>una hamburguesa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17bbfd"/>
                </a:solidFill>
                <a:latin typeface="Century Gothic"/>
              </a:rPr>
              <a:t>a Marta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mos a reemplazar el objeto indirec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Mueve el pronombre enfrente del verb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ria </a:t>
            </a:r>
            <a:r>
              <a:rPr b="1" lang="en-US" sz="3600" spc="-1" strike="noStrike">
                <a:solidFill>
                  <a:srgbClr val="17bbfd"/>
                </a:solidFill>
                <a:latin typeface="Century Gothic"/>
              </a:rPr>
              <a:t>le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da una hamburguesa.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6553080" y="2133720"/>
            <a:ext cx="1676520" cy="91440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Curved Up Arrow 7"/>
          <p:cNvSpPr/>
          <p:nvPr/>
        </p:nvSpPr>
        <p:spPr>
          <a:xfrm rot="10275600">
            <a:off x="1907640" y="1213920"/>
            <a:ext cx="4537080" cy="730440"/>
          </a:xfrm>
          <a:custGeom>
            <a:avLst/>
            <a:gdLst>
              <a:gd name="textAreaLeft" fmla="*/ 1042560 w 4537080"/>
              <a:gd name="textAreaRight" fmla="*/ 3372480 w 453708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27" hR="21600" stAng="10800000" swAng="-5400000"/>
                <a:lnTo>
                  <a:pt x="11091" y="21600"/>
                </a:lnTo>
                <a:arcTo wR="9927" hR="21600" stAng="5400000" swAng="-3640335"/>
                <a:lnTo>
                  <a:pt x="21285" y="5400"/>
                </a:lnTo>
                <a:lnTo>
                  <a:pt x="20436" y="0"/>
                </a:lnTo>
                <a:lnTo>
                  <a:pt x="18957" y="5400"/>
                </a:lnTo>
                <a:lnTo>
                  <a:pt x="19539" y="5400"/>
                </a:lnTo>
                <a:arcTo wR="9927" hR="21600" stAng="1759665" swAng="3547570"/>
                <a:lnTo>
                  <a:pt x="10509" y="21563"/>
                </a:lnTo>
                <a:arcTo wR="9927" hR="21600" stAng="5492765" swAng="5307235"/>
                <a:close/>
              </a:path>
              <a:path fill="darkenLess" w="21600" h="21600">
                <a:moveTo>
                  <a:pt x="0" y="0"/>
                </a:moveTo>
                <a:arcTo wR="9927" hR="21600" stAng="10800000" swAng="-5400000"/>
                <a:lnTo>
                  <a:pt x="11091" y="21600"/>
                </a:lnTo>
                <a:arcTo wR="9927" hR="21600" stAng="5400000" swAng="92765"/>
                <a:lnTo>
                  <a:pt x="10509" y="21563"/>
                </a:lnTo>
                <a:arcTo wR="9927" hR="21600" stAng="5492765" swAng="5307235"/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WordArt 7"/>
          <p:cNvSpPr txBox="1"/>
          <p:nvPr/>
        </p:nvSpPr>
        <p:spPr>
          <a:xfrm>
            <a:off x="7162920" y="228600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ria da 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una hamburguesa </a:t>
            </a:r>
            <a:r>
              <a:rPr b="1" lang="en-US" sz="3000" spc="-1" strike="noStrike">
                <a:solidFill>
                  <a:srgbClr val="17bbfd"/>
                </a:solidFill>
                <a:latin typeface="Century Gothic"/>
              </a:rPr>
              <a:t>a Mart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ria gives </a:t>
            </a:r>
            <a:r>
              <a:rPr b="0" lang="en-US" sz="2600" spc="-1" strike="noStrike">
                <a:solidFill>
                  <a:srgbClr val="17bbfd"/>
                </a:solidFill>
                <a:latin typeface="Century Gothic"/>
              </a:rPr>
              <a:t>Marta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a hamburger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ria </a:t>
            </a:r>
            <a:r>
              <a:rPr b="1" lang="en-US" sz="3000" spc="-1" strike="noStrike">
                <a:solidFill>
                  <a:srgbClr val="17bbfd"/>
                </a:solidFill>
                <a:latin typeface="Century Gothic"/>
              </a:rPr>
              <a:t>le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da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 una hamburgues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ria gives </a:t>
            </a:r>
            <a:r>
              <a:rPr b="0" lang="en-US" sz="2600" spc="-1" strike="noStrike">
                <a:solidFill>
                  <a:srgbClr val="17bbfd"/>
                </a:solidFill>
                <a:latin typeface="Century Gothic"/>
              </a:rPr>
              <a:t>her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a hamburger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8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Los Objetos Doble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u puedes escribir una frase con los dos tipos de pronomb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WordArt 4"/>
          <p:cNvSpPr txBox="1"/>
          <p:nvPr/>
        </p:nvSpPr>
        <p:spPr>
          <a:xfrm>
            <a:off x="2819520" y="3581280"/>
            <a:ext cx="349560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bjeto direc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3" name="WordArt 5"/>
          <p:cNvSpPr txBox="1"/>
          <p:nvPr/>
        </p:nvSpPr>
        <p:spPr>
          <a:xfrm>
            <a:off x="2590920" y="4267080"/>
            <a:ext cx="38098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objeto indirec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2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5c9c"/>
                </a:solidFill>
                <a:latin typeface="Century Gothic"/>
              </a:rPr>
              <a:t>El Vocabulario Importante de la lección</a:t>
            </a:r>
            <a:endParaRPr b="0" lang="en-US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Sustantivo/nombr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= nou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Adjetivo = adjec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Verbo = verb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Pronombre = pronou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Objeto directo = direct obj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Objeto indirecto = indirect obj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Frase/oracion = phrase/sente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Muestra = show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Reemplaza = repla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Cambia = chang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Ejemplo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453600" y="2133720"/>
            <a:ext cx="86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ia da </a:t>
            </a:r>
            <a:r>
              <a:rPr b="1" lang="en-US" sz="3600" spc="-1" strike="noStrike">
                <a:solidFill>
                  <a:srgbClr val="ff2bd8"/>
                </a:solidFill>
                <a:latin typeface="Arial"/>
              </a:rPr>
              <a:t>una hamburgues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bbfd"/>
                </a:solidFill>
                <a:latin typeface="Arial"/>
              </a:rPr>
              <a:t>a nosotro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1143000" y="365760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Vamos a reemplazar el objeto dir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Mueve el pronombre enfrente del verb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Despues, vamos a reemplazar el objeto indir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Mueve el pronombre enfrente del objeto dir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aria </a:t>
            </a:r>
            <a:r>
              <a:rPr b="1" lang="en-US" sz="3200" spc="-1" strike="noStrike">
                <a:solidFill>
                  <a:srgbClr val="17bbfd"/>
                </a:solidFill>
                <a:latin typeface="Century Gothic"/>
              </a:rPr>
              <a:t>___________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3200" spc="-1" strike="noStrike">
                <a:solidFill>
                  <a:srgbClr val="e40059"/>
                </a:solidFill>
                <a:latin typeface="Century Gothic"/>
              </a:rPr>
              <a:t>_____________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da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1" lang="en-US" sz="3200" spc="-1" strike="noStrike">
                <a:solidFill>
                  <a:srgbClr val="17bbfd"/>
                </a:solidFill>
                <a:latin typeface="Century Gothic"/>
              </a:rPr>
              <a:t>(I.O)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r>
              <a:rPr b="1" lang="en-US" sz="3200" spc="-1" strike="noStrike">
                <a:solidFill>
                  <a:srgbClr val="e40059"/>
                </a:solidFill>
                <a:latin typeface="Century Gothic"/>
              </a:rPr>
              <a:t>(D.O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Maria gives it to u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WordArt 4"/>
          <p:cNvSpPr txBox="1"/>
          <p:nvPr/>
        </p:nvSpPr>
        <p:spPr>
          <a:xfrm>
            <a:off x="2362320" y="251460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1" name="WordArt 5"/>
          <p:cNvSpPr txBox="1"/>
          <p:nvPr/>
        </p:nvSpPr>
        <p:spPr>
          <a:xfrm>
            <a:off x="5105520" y="2514600"/>
            <a:ext cx="99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5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5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Practic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waiter brings the food to Juan and me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am going to ask you for the notes tomorrow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*NOT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Si los dos, el “objeto directo” y el “objeto indirecto” están en la tercera persona, el objeto indirecto (IO) cambia a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WordArt 4"/>
          <p:cNvSpPr txBox="1"/>
          <p:nvPr/>
        </p:nvSpPr>
        <p:spPr>
          <a:xfrm>
            <a:off x="2895480" y="3733920"/>
            <a:ext cx="2362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9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898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Practic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give Domingo the pear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ristobal gives Consuela a kis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irls give you a hug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¿Preguntas?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Ejemplo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ria gives </a:t>
            </a:r>
            <a:r>
              <a:rPr b="1" lang="en-US" sz="3600" spc="-1" strike="noStrike">
                <a:solidFill>
                  <a:srgbClr val="e40059"/>
                </a:solidFill>
                <a:latin typeface="Century Gothic"/>
              </a:rPr>
              <a:t>a hamburger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e40059"/>
                </a:solidFill>
                <a:latin typeface="Century Gothic"/>
              </a:rPr>
              <a:t>to Juan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Nomb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entury Gothic"/>
              </a:rPr>
              <a:t>Una persona, un lugar, o una co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Adjetiv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entury Gothic"/>
              </a:rPr>
              <a:t>Describe un nomb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Verb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entury Gothic"/>
              </a:rPr>
              <a:t>Muestra ac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Pronomb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entury Gothic"/>
              </a:rPr>
              <a:t>Reemplaza el nomb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El objeto directo recibe la acción del verbo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Normalmente, Si puedes contestar la pregunta </a:t>
            </a:r>
            <a:r>
              <a:rPr b="1" lang="es-ES_tradnl" sz="2600" spc="-1" strike="noStrike">
                <a:solidFill>
                  <a:srgbClr val="ffffff"/>
                </a:solidFill>
                <a:latin typeface="Century Gothic"/>
              </a:rPr>
              <a:t>“¿quién?” </a:t>
            </a: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1" lang="es-ES_tradnl" sz="2600" spc="-1" strike="noStrike">
                <a:solidFill>
                  <a:srgbClr val="ffffff"/>
                </a:solidFill>
                <a:latin typeface="Century Gothic"/>
              </a:rPr>
              <a:t>“¿qué?” </a:t>
            </a: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después del verbo… hay un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Century Gothic"/>
              </a:rPr>
              <a:t>objeto directo. 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También…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ormalmente, el objeto es un sustantiv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Maria eats a hamburger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t’s label this sentenc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005f"/>
                </a:solidFill>
                <a:latin typeface="Century Gothic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does Maria eat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Rectangle 3" descr=""/>
          <p:cNvPicPr/>
          <p:nvPr/>
        </p:nvPicPr>
        <p:blipFill>
          <a:blip r:embed="rId2"/>
          <a:stretch/>
        </p:blipFill>
        <p:spPr>
          <a:xfrm>
            <a:off x="1305000" y="1500120"/>
            <a:ext cx="1425600" cy="112716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4" descr=""/>
          <p:cNvPicPr/>
          <p:nvPr/>
        </p:nvPicPr>
        <p:blipFill>
          <a:blip r:embed="rId3"/>
          <a:stretch/>
        </p:blipFill>
        <p:spPr>
          <a:xfrm>
            <a:off x="2816280" y="1474920"/>
            <a:ext cx="1523880" cy="115236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5" descr=""/>
          <p:cNvPicPr/>
          <p:nvPr/>
        </p:nvPicPr>
        <p:blipFill>
          <a:blip r:embed="rId4"/>
          <a:stretch/>
        </p:blipFill>
        <p:spPr>
          <a:xfrm>
            <a:off x="3906720" y="2054160"/>
            <a:ext cx="1036800" cy="609840"/>
          </a:xfrm>
          <a:prstGeom prst="rect">
            <a:avLst/>
          </a:prstGeom>
          <a:ln w="0">
            <a:noFill/>
          </a:ln>
        </p:spPr>
      </p:pic>
      <p:pic>
        <p:nvPicPr>
          <p:cNvPr id="324" name="Rectangle 6" descr=""/>
          <p:cNvPicPr/>
          <p:nvPr/>
        </p:nvPicPr>
        <p:blipFill>
          <a:blip r:embed="rId5"/>
          <a:stretch/>
        </p:blipFill>
        <p:spPr>
          <a:xfrm>
            <a:off x="5145120" y="1657440"/>
            <a:ext cx="2316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arla wants pizza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armelita kisses Carlo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usana is tall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WordArt 9"/>
          <p:cNvSpPr txBox="1"/>
          <p:nvPr/>
        </p:nvSpPr>
        <p:spPr>
          <a:xfrm>
            <a:off x="7162920" y="3886200"/>
            <a:ext cx="1133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jetiv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8" name="AutoShape 10"/>
          <p:cNvSpPr/>
          <p:nvPr/>
        </p:nvSpPr>
        <p:spPr>
          <a:xfrm rot="20688600">
            <a:off x="6248520" y="434304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Not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ando una persona es el objeto directo, se necesita usar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WordArt 4"/>
          <p:cNvSpPr txBox="1"/>
          <p:nvPr/>
        </p:nvSpPr>
        <p:spPr>
          <a:xfrm>
            <a:off x="1828800" y="3429000"/>
            <a:ext cx="56386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A" persona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3:04:44Z</dcterms:created>
  <dc:creator>Crystal</dc:creator>
  <dc:description/>
  <dc:language>en-US</dc:language>
  <cp:lastModifiedBy>gilmore</cp:lastModifiedBy>
  <dcterms:modified xsi:type="dcterms:W3CDTF">2013-05-08T18:56:11Z</dcterms:modified>
  <cp:revision>68</cp:revision>
  <dc:subject/>
  <dc:title>Los Objetos</dc:title>
</cp:coreProperties>
</file>